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591B014-D2A6-4ADA-A694-4D3704B012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905040" y="74916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288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7467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IT Kolledzh/TTÜ 2005        T.Tammet     IT sissejuhatus loeng 10      lk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F3BB9EF1-3B3C-436F-BE90-F6A1B6F0E4D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6324480"/>
            <a:ext cx="4190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6666ff"/>
                </a:solidFill>
                <a:uFillTx/>
                <a:latin typeface="Arial"/>
              </a:rPr>
              <a:t>TTÜ 1999 T.Tammet  IT sissejuh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6248520"/>
            <a:ext cx="7772400" cy="14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B33E3-081A-4EA0-B518-3CB5A62C989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bm.com/" TargetMode="Externa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rmaatik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01320"/>
            <a:ext cx="7772400" cy="308160"/>
            <a:chOff x="914400" y="301320"/>
            <a:chExt cx="7772400" cy="308160"/>
          </a:xfrm>
        </p:grpSpPr>
        <p:sp>
          <p:nvSpPr>
            <p:cNvPr id="90" name=""/>
            <p:cNvSpPr/>
            <p:nvPr/>
          </p:nvSpPr>
          <p:spPr>
            <a:xfrm>
              <a:off x="914400" y="60804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685360" y="30132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381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84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88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92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96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00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04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08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12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16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(ilmselt!) masina X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410080" y="2053800"/>
            <a:ext cx="381240" cy="2350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kaduma mi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45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45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45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46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46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46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47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47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48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48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219320"/>
            <a:ext cx="220968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de läheb masinani E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E crashib (läheb katki, programm läheb segamini, vool läheb ära v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rgu alusprotokoll: IP ise ei kontrolli, kas te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õudis pära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52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2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2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53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53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53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54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54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55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55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1219320"/>
            <a:ext cx="23446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peab saatma  teksti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 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lõhub pika  teksti kaheks paketik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hoi,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h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 E-&gt;X, 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E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eühendus rik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leiab, et saab saata teate tei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X-ile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 L kau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64160" y="2631960"/>
            <a:ext cx="15836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59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595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599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03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07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11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15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19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23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627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920" y="1219320"/>
            <a:ext cx="220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ki t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L, 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nab selle masinasse 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ks teksti 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kusid eri teid pid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60560" y="2631960"/>
            <a:ext cx="1946160" cy="15130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6321600" y="2206440"/>
            <a:ext cx="234720" cy="1301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1760" y="-131760"/>
            <a:ext cx="81406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666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669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673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677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681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685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689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693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697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01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1219320"/>
            <a:ext cx="22096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ljem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uue teat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 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 suunab esimese os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r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“ läbi masina 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63800" y="2631960"/>
            <a:ext cx="1524240" cy="80388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k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6321600" y="2206440"/>
            <a:ext cx="234720" cy="13014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aketid võivad minna eri teid pidi, eri kiiruse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740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743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747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751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755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759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763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767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771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775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4920" y="1219320"/>
            <a:ext cx="22096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läheb otseühendus ko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E suunab os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t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otse masinale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ne osa võib seega jõuda kohale enne esime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4572000" y="2892240"/>
            <a:ext cx="53352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733920" y="3425400"/>
            <a:ext cx="6858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 flipV="1">
            <a:off x="5711400" y="2359080"/>
            <a:ext cx="145404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60200" y="2631960"/>
            <a:ext cx="163152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äheb kor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334120" y="2054160"/>
            <a:ext cx="45720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lep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et kuidas infot saata ja sellest aru saada tuleb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protokoll lubab saata ainult väikeseid tekstijupp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ekstijupi ette pannakse lisainfo (päis ehk header), mis ütleb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hu see tekst siis saata tuleb (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t  tekst tuli (saatja IP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a lisainfot ka v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813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143000" y="3809880"/>
            <a:ext cx="6019920" cy="685800"/>
            <a:chOff x="1143000" y="3809880"/>
            <a:chExt cx="6019920" cy="685800"/>
          </a:xfrm>
        </p:grpSpPr>
        <p:sp>
          <p:nvSpPr>
            <p:cNvPr id="816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43000" y="38098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2666880" y="3809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CP/IP pere tööhobu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FC 79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ranteerib marsruutimise, st minemise õiges suuna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teusaldusväärne - ei taga kohalejõudmi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ui sisendpuhver on täis, siis ignoreerib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loo kanali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ga datagrammi käsitletakse sõltumatul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: IP (internet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semalt (pole vaja pähe jätta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82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järgmised protokollid: UDP ja TC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põhi-protokolli, mis kasutavad IP-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UDP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(user datagram protocol). Ei kontrollita, kas info jõudis pärale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CP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transfer control protocol). Toimub kontroll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mbalgi puhul (TCP näitel):</a:t>
            </a: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 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830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838080" y="2895480"/>
            <a:ext cx="6019920" cy="685800"/>
            <a:chOff x="838080" y="2895480"/>
            <a:chExt cx="6019920" cy="685800"/>
          </a:xfrm>
        </p:grpSpPr>
        <p:sp>
          <p:nvSpPr>
            <p:cNvPr id="833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8080" y="2895480"/>
              <a:ext cx="601992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 Päis                     Sisutekst (d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133720" y="2895480"/>
            <a:ext cx="144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209680" y="4876920"/>
            <a:ext cx="4648320" cy="761760"/>
            <a:chOff x="2209680" y="4876920"/>
            <a:chExt cx="4648320" cy="761760"/>
          </a:xfrm>
        </p:grpSpPr>
        <p:sp>
          <p:nvSpPr>
            <p:cNvPr id="837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09680" y="4876920"/>
              <a:ext cx="4648320" cy="7617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 Päis            Vajalik  sisutek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3581280" y="4952880"/>
            <a:ext cx="1800" cy="6098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13760" y="3962520"/>
            <a:ext cx="4159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aldab omakorda päisega inf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funktsion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võrgunduse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irülevaade interneti funktsioneerimis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asmehhanismi, IP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CP ja UDP: kaks täiendavat protokolli IP-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kihilisest protokollindusest: ISO/OSI mud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sideprotokolli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NS funktsioneerim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id brauseriga ja telnetig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95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UDP (User Datagram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rakenduse väljund tekitab uue datagramm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taga usaldatav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atagrammi eh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ähte- ja sihtport (kumbki 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atagrammi pikkus (kaks bait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(kaks baiti, pole kohustuslik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ndmeosa (varieeruva pikkusega hulk baite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DP paketi maksimaalpikkus on seega 64 kilobai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trollsumma vea puhul unustatakse datagram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akendused: DNS, NFS, TF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987480" y="3200400"/>
            <a:ext cx="387360" cy="762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CP(Transmission Control Protocol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hendusorienteeritud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saldatav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oo tüüp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agab voo segmentide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tes käivitab taimeri ja ootab kinnitu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nnitab saadud segmen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summa päisest ja andmetest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rastab segmentide järjest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Unustab dublikaadid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ntrollib voo mahtu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61840" y="134568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asinas elab korraga palju programme ja igaüks tahab saada/saata oma pakette. Millisele programmile konkreetne pakett saata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le antakse kasutamisek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ummerdatud TCP või UDP port (need ei ole füüsilised pistikud!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e määravad: IP aadressid, pordid, protokol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838080" y="3429000"/>
            <a:ext cx="2667240" cy="2743200"/>
            <a:chOff x="838080" y="3429000"/>
            <a:chExt cx="2667240" cy="2743200"/>
          </a:xfrm>
        </p:grpSpPr>
        <p:sp>
          <p:nvSpPr>
            <p:cNvPr id="851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8080" y="3429000"/>
              <a:ext cx="2667240" cy="2743200"/>
            </a:xfrm>
            <a:custGeom>
              <a:avLst/>
              <a:gdLst>
                <a:gd name="textAreaLeft" fmla="*/ 360 w 2667240"/>
                <a:gd name="textAreaRight" fmla="*/ 2666880 w 2667240"/>
                <a:gd name="textAreaTop" fmla="*/ 360 h 2743200"/>
                <a:gd name="textAreaBottom" fmla="*/ 2742840 h 2743200"/>
              </a:gdLst>
              <a:ahLst/>
              <a:rect l="textAreaLeft" t="textAreaTop" r="textAreaRight" b="textAreaBottom"/>
              <a:pathLst>
                <a:path w="21600" h="22215">
                  <a:moveTo>
                    <a:pt x="12" y="0"/>
                  </a:moveTo>
                  <a:arcTo wR="12" hR="12" stAng="16200000" swAng="-5400000"/>
                  <a:lnTo>
                    <a:pt x="0" y="22203"/>
                  </a:lnTo>
                  <a:arcTo wR="12" hR="12" stAng="10800000" swAng="-5400000"/>
                  <a:lnTo>
                    <a:pt x="21588" y="22215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6477120" y="327672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191120" y="3505320"/>
            <a:ext cx="304560" cy="304560"/>
            <a:chOff x="4191120" y="3505320"/>
            <a:chExt cx="304560" cy="304560"/>
          </a:xfrm>
        </p:grpSpPr>
        <p:sp>
          <p:nvSpPr>
            <p:cNvPr id="855" name=""/>
            <p:cNvSpPr/>
            <p:nvPr/>
          </p:nvSpPr>
          <p:spPr>
            <a:xfrm>
              <a:off x="4191120" y="3505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35400" y="3549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191120" y="4343400"/>
            <a:ext cx="304560" cy="380880"/>
            <a:chOff x="4191120" y="4343400"/>
            <a:chExt cx="304560" cy="380880"/>
          </a:xfrm>
        </p:grpSpPr>
        <p:sp>
          <p:nvSpPr>
            <p:cNvPr id="858" name=""/>
            <p:cNvSpPr/>
            <p:nvPr/>
          </p:nvSpPr>
          <p:spPr>
            <a:xfrm>
              <a:off x="4191120" y="4343400"/>
              <a:ext cx="304560" cy="3808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35400" y="4398840"/>
              <a:ext cx="214200" cy="26856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68560"/>
                <a:gd name="textAreaBottom" fmla="*/ 268200 h 268560"/>
              </a:gdLst>
              <a:ahLst/>
              <a:rect l="textAreaLeft" t="textAreaTop" r="textAreaRight" b="textAreaBottom"/>
              <a:pathLst>
                <a:path w="21600" h="27072">
                  <a:moveTo>
                    <a:pt x="161" y="0"/>
                  </a:moveTo>
                  <a:arcTo wR="161" hR="161" stAng="16200000" swAng="-5400000"/>
                  <a:lnTo>
                    <a:pt x="0" y="26911"/>
                  </a:lnTo>
                  <a:arcTo wR="161" hR="161" stAng="10800000" swAng="-5400000"/>
                  <a:lnTo>
                    <a:pt x="21439" y="27072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191120" y="5791320"/>
            <a:ext cx="304560" cy="304560"/>
            <a:chOff x="4191120" y="5791320"/>
            <a:chExt cx="304560" cy="304560"/>
          </a:xfrm>
        </p:grpSpPr>
        <p:sp>
          <p:nvSpPr>
            <p:cNvPr id="861" name=""/>
            <p:cNvSpPr/>
            <p:nvPr/>
          </p:nvSpPr>
          <p:spPr>
            <a:xfrm>
              <a:off x="4191120" y="5791320"/>
              <a:ext cx="304560" cy="30456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35400" y="5835600"/>
              <a:ext cx="21420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791320" y="3429000"/>
            <a:ext cx="304560" cy="304920"/>
            <a:chOff x="5791320" y="3429000"/>
            <a:chExt cx="304560" cy="304920"/>
          </a:xfrm>
        </p:grpSpPr>
        <p:sp>
          <p:nvSpPr>
            <p:cNvPr id="864" name=""/>
            <p:cNvSpPr/>
            <p:nvPr/>
          </p:nvSpPr>
          <p:spPr>
            <a:xfrm>
              <a:off x="5791320" y="3429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5600" y="3473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715000" y="4267080"/>
            <a:ext cx="304920" cy="304920"/>
            <a:chOff x="5715000" y="4267080"/>
            <a:chExt cx="304920" cy="304920"/>
          </a:xfrm>
        </p:grpSpPr>
        <p:sp>
          <p:nvSpPr>
            <p:cNvPr id="867" name=""/>
            <p:cNvSpPr/>
            <p:nvPr/>
          </p:nvSpPr>
          <p:spPr>
            <a:xfrm>
              <a:off x="5715000" y="4267080"/>
              <a:ext cx="30492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59280" y="4311720"/>
              <a:ext cx="216000" cy="216000"/>
            </a:xfrm>
            <a:prstGeom prst="roundRect">
              <a:avLst>
                <a:gd name="adj" fmla="val 7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791320" y="5715000"/>
            <a:ext cx="304560" cy="304920"/>
            <a:chOff x="5791320" y="5715000"/>
            <a:chExt cx="304560" cy="304920"/>
          </a:xfrm>
        </p:grpSpPr>
        <p:sp>
          <p:nvSpPr>
            <p:cNvPr id="870" name=""/>
            <p:cNvSpPr/>
            <p:nvPr/>
          </p:nvSpPr>
          <p:spPr>
            <a:xfrm>
              <a:off x="5791320" y="5715000"/>
              <a:ext cx="304560" cy="30492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35600" y="5759280"/>
              <a:ext cx="214200" cy="216000"/>
            </a:xfrm>
            <a:custGeom>
              <a:avLst/>
              <a:gdLst>
                <a:gd name="textAreaLeft" fmla="*/ 360 w 214200"/>
                <a:gd name="textAreaRight" fmla="*/ 213840 w 214200"/>
                <a:gd name="textAreaTop" fmla="*/ 360 h 216000"/>
                <a:gd name="textAreaBottom" fmla="*/ 215640 h 216000"/>
              </a:gdLst>
              <a:ahLst/>
              <a:rect l="textAreaLeft" t="textAreaTop" r="textAreaRight" b="textAreaBottom"/>
              <a:pathLst>
                <a:path w="21600" h="21781">
                  <a:moveTo>
                    <a:pt x="161" y="0"/>
                  </a:moveTo>
                  <a:arcTo wR="161" hR="161" stAng="16200000" swAng="-5400000"/>
                  <a:lnTo>
                    <a:pt x="0" y="21620"/>
                  </a:lnTo>
                  <a:arcTo wR="161" hR="161" stAng="10800000" swAng="-5400000"/>
                  <a:lnTo>
                    <a:pt x="21439" y="21781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flipH="1">
            <a:off x="3502080" y="3657600"/>
            <a:ext cx="691920" cy="7632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425760" y="4572000"/>
            <a:ext cx="76824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3502080" y="5864040"/>
            <a:ext cx="691920" cy="82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5880" y="3581280"/>
            <a:ext cx="38124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19920" y="441972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95880" y="58672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2286000" y="3730680"/>
            <a:ext cx="1219320" cy="1225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2133720" y="4568400"/>
            <a:ext cx="1295280" cy="6159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905120" y="4949640"/>
            <a:ext cx="1752480" cy="539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20920" y="510552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644800" y="4952880"/>
            <a:ext cx="48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492440" y="3657600"/>
            <a:ext cx="1301400" cy="7621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4416480" y="3730320"/>
            <a:ext cx="1225440" cy="61596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4568400" y="5867280"/>
            <a:ext cx="114948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512040" y="338940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00800" y="5334120"/>
            <a:ext cx="152280" cy="380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7120" y="3581280"/>
            <a:ext cx="457200" cy="1905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77120" y="4419720"/>
            <a:ext cx="228600" cy="761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r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rtide liigitu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 - 1023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tuntud pordid, s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1       FTP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3       telnet – TC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17     UD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024 – 5000      klientprogrammide ajutised por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5000                muud (mitte-üldtuntud) server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lient - server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25480" y="1468080"/>
            <a:ext cx="7848720" cy="518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dine algorit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ootab mingil üldteada pordil ühenduskuts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reserveerib dünaamilise por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t saadab serverile ühenduskutse (koos oma pordinumbrig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vastab kliendile tema pordinumbr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tereeriv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ta vastu uut kutset enne eelneva töötl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ralleelne serv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ivitab iga kutse jaoks eraldi serveri ajutise pordinumbriga selle ühendus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on mitme ajas lähestikuse kutse järel masinas käimas mitu “koopiat” ehk protsessi või threadi ühest server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tele paistab, et need “koopiad” käivad korraga, tegelikult hoolitseb selle “kooskäimise simulatsiooni” eest opsüstee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O - OSI mude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2979720" y="1676520"/>
          <a:ext cx="3544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76520"/>
                    <a:ext cx="3544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OSI mudeli kih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ides (interface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ma süsteemi eri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tokoll (protocol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ri süsteemide samade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ihtide suhtlusviis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mavahe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435560" y="2354400"/>
          <a:ext cx="421632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2354400"/>
                    <a:ext cx="421632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apseld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2265480" y="1889280"/>
          <a:ext cx="467028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89280"/>
                    <a:ext cx="467028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okollipered (internet ja mõned muud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646280" y="1676520"/>
          <a:ext cx="6232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676520"/>
                    <a:ext cx="6232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209680" y="1066680"/>
          <a:ext cx="457200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066680"/>
                    <a:ext cx="4572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 flipH="1" flipV="1">
            <a:off x="6778440" y="2816280"/>
            <a:ext cx="920520" cy="691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391160" y="3505320"/>
            <a:ext cx="1219320" cy="119196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a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kol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he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914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971800" y="5638680"/>
            <a:ext cx="3581280" cy="457200"/>
            <a:chOff x="2971800" y="5638680"/>
            <a:chExt cx="3581280" cy="457200"/>
          </a:xfrm>
        </p:grpSpPr>
        <p:sp>
          <p:nvSpPr>
            <p:cNvPr id="917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71800" y="563868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971800" y="5029200"/>
            <a:ext cx="3581280" cy="457200"/>
            <a:chOff x="2971800" y="5029200"/>
            <a:chExt cx="3581280" cy="457200"/>
          </a:xfrm>
        </p:grpSpPr>
        <p:sp>
          <p:nvSpPr>
            <p:cNvPr id="920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1800" y="5029200"/>
              <a:ext cx="3581280" cy="4572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2895480" y="4038480"/>
            <a:ext cx="3581640" cy="533520"/>
            <a:chOff x="2895480" y="4038480"/>
            <a:chExt cx="3581640" cy="533520"/>
          </a:xfrm>
        </p:grpSpPr>
        <p:sp>
          <p:nvSpPr>
            <p:cNvPr id="923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95480" y="4038480"/>
              <a:ext cx="3581640" cy="53352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133720" y="2666880"/>
            <a:ext cx="1600200" cy="762120"/>
            <a:chOff x="2133720" y="2666880"/>
            <a:chExt cx="1600200" cy="762120"/>
          </a:xfrm>
        </p:grpSpPr>
        <p:sp>
          <p:nvSpPr>
            <p:cNvPr id="926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3720" y="266688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5562720" y="2743200"/>
            <a:ext cx="1600200" cy="762120"/>
            <a:chOff x="5562720" y="2743200"/>
            <a:chExt cx="1600200" cy="762120"/>
          </a:xfrm>
        </p:grpSpPr>
        <p:sp>
          <p:nvSpPr>
            <p:cNvPr id="929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62720" y="2743200"/>
              <a:ext cx="1600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219320" y="1600200"/>
            <a:ext cx="1066680" cy="685800"/>
            <a:chOff x="1219320" y="1600200"/>
            <a:chExt cx="1066680" cy="685800"/>
          </a:xfrm>
        </p:grpSpPr>
        <p:sp>
          <p:nvSpPr>
            <p:cNvPr id="932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193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438280" y="1600200"/>
            <a:ext cx="1067040" cy="685800"/>
            <a:chOff x="2438280" y="1600200"/>
            <a:chExt cx="1067040" cy="685800"/>
          </a:xfrm>
        </p:grpSpPr>
        <p:sp>
          <p:nvSpPr>
            <p:cNvPr id="935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8280" y="1600200"/>
              <a:ext cx="106704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657600" y="1600200"/>
            <a:ext cx="1066680" cy="685800"/>
            <a:chOff x="3657600" y="1600200"/>
            <a:chExt cx="1066680" cy="685800"/>
          </a:xfrm>
        </p:grpSpPr>
        <p:sp>
          <p:nvSpPr>
            <p:cNvPr id="938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5760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334120" y="1600200"/>
            <a:ext cx="1066680" cy="685800"/>
            <a:chOff x="5334120" y="1600200"/>
            <a:chExt cx="1066680" cy="685800"/>
          </a:xfrm>
        </p:grpSpPr>
        <p:sp>
          <p:nvSpPr>
            <p:cNvPr id="941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41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705720" y="1600200"/>
            <a:ext cx="1066680" cy="685800"/>
            <a:chOff x="6705720" y="1600200"/>
            <a:chExt cx="1066680" cy="685800"/>
          </a:xfrm>
        </p:grpSpPr>
        <p:sp>
          <p:nvSpPr>
            <p:cNvPr id="944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05720" y="1600200"/>
              <a:ext cx="106668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  <a:lnTo>
                  <a:pt x="1905" y="524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066680" y="4035240"/>
            <a:ext cx="838440" cy="13014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240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3197160" y="3502080"/>
            <a:ext cx="38736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410080" y="3578400"/>
            <a:ext cx="38124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629400" y="2359080"/>
            <a:ext cx="38088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6016320" y="2359080"/>
            <a:ext cx="15876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2130120" y="2282760"/>
            <a:ext cx="15876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895480" y="2359080"/>
            <a:ext cx="1800" cy="234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3429000" y="2282760"/>
            <a:ext cx="30492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48320" y="4645080"/>
            <a:ext cx="144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4648320" y="5482800"/>
            <a:ext cx="1440" cy="158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626160" y="5334120"/>
            <a:ext cx="84456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44768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  <a:lnTo>
                  <a:pt x="449" y="820"/>
                </a:ln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609480" y="2282400"/>
            <a:ext cx="609840" cy="615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2895480"/>
            <a:ext cx="182880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27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iirülevaade võrgunduse funktsioneerimi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00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96080" y="518148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20600" y="2932200"/>
            <a:ext cx="311220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ib k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eg ja ootab, et ke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lle infot (mingi teks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aks. Kui saadetak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ta rehkendab vast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5640" y="3276720"/>
            <a:ext cx="312444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gramm 2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aad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le 1 masina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i, ootab vast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järel vaatab, m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es on, ja vastav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guts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32960" y="198108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2400" y="5334120"/>
            <a:ext cx="104544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666880"/>
            <a:ext cx="4800600" cy="274320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6120" y="2209680"/>
            <a:ext cx="191124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37160" y="1789200"/>
            <a:ext cx="246456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9080" y="4724280"/>
            <a:ext cx="5459040" cy="1490760"/>
            <a:chOff x="559080" y="4724280"/>
            <a:chExt cx="5459040" cy="1490760"/>
          </a:xfrm>
        </p:grpSpPr>
        <p:sp>
          <p:nvSpPr>
            <p:cNvPr id="112" name=""/>
            <p:cNvSpPr/>
            <p:nvPr/>
          </p:nvSpPr>
          <p:spPr>
            <a:xfrm>
              <a:off x="609480" y="4724280"/>
              <a:ext cx="5315040" cy="149076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4724280"/>
              <a:ext cx="5459040" cy="127368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NB!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asinates X ja Y on</a:t>
              </a: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 elektroonikatük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Bitstream Vera Sans"/>
                </a:rPr>
                <a:t>(võrgukaart)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mis on traadi küljes ja suudab mõõ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inget traadis ja sinna ise pinget peale an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rogrammid 1 ja 2 juhivad/kuulavad võrgukaar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kaardi draiveriprogrammi ab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5" name="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4320" y="4114800"/>
            <a:ext cx="1600200" cy="1905120"/>
            <a:chOff x="6934320" y="4114800"/>
            <a:chExt cx="1600200" cy="1905120"/>
          </a:xfrm>
        </p:grpSpPr>
        <p:sp>
          <p:nvSpPr>
            <p:cNvPr id="967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4320" y="4114800"/>
              <a:ext cx="1600200" cy="1905120"/>
            </a:xfrm>
            <a:custGeom>
              <a:avLst/>
              <a:gdLst>
                <a:gd name="textAreaLeft" fmla="*/ 360 w 1600200"/>
                <a:gd name="textAreaRight" fmla="*/ 1599840 w 1600200"/>
                <a:gd name="textAreaTop" fmla="*/ 360 h 1905120"/>
                <a:gd name="textAreaBottom" fmla="*/ 1904760 h 1905120"/>
              </a:gdLst>
              <a:ahLst/>
              <a:rect l="textAreaLeft" t="textAreaTop" r="textAreaRight" b="textAreaBottom"/>
              <a:pathLst>
                <a:path w="21600" h="25715">
                  <a:moveTo>
                    <a:pt x="21" y="0"/>
                  </a:moveTo>
                  <a:arcTo wR="21" hR="21" stAng="16200000" swAng="-5400000"/>
                  <a:lnTo>
                    <a:pt x="0" y="25694"/>
                  </a:lnTo>
                  <a:arcTo wR="21" hR="21" stAng="10800000" swAng="-5400000"/>
                  <a:lnTo>
                    <a:pt x="21579" y="25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142956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3349440" y="2587320"/>
            <a:ext cx="3282840" cy="1377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3300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52680" y="3429000"/>
            <a:ext cx="3200400" cy="1295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7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päring on sisuliselt tekstiline käsk serverile: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Mozilla, Ie, Konqueror, 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telnet ühenduse masina deepthought.ttu.ee porti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pime sisse, seejärel tipime kaks reavahet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ET /it/index.html HTTP/1.0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 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8" name=""/>
          <p:cNvSpPr/>
          <p:nvPr/>
        </p:nvSpPr>
        <p:spPr>
          <a:xfrm>
            <a:off x="609480" y="1905120"/>
            <a:ext cx="228600" cy="2361960"/>
          </a:xfrm>
          <a:custGeom>
            <a:avLst/>
            <a:gdLst/>
            <a:ahLst/>
            <a:rect l="l" t="t" r="r" b="b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80880" y="4721040"/>
            <a:ext cx="457200" cy="5396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676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01000" y="4952880"/>
            <a:ext cx="609480" cy="1371600"/>
          </a:xfrm>
          <a:custGeom>
            <a:avLst/>
            <a:gdLst/>
            <a:ahLst/>
            <a:rect l="l" t="t" r="r" b="b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17200" y="411480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dasi HTTP suunas: DNS: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Domain Name Server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Ülesann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ui programmile on antud masina nimi, millega ühendust võtta (näiteks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cnn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, siis tuleb kõigepealt leida sellenimelise masina IP aadres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NS server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serverid, mis sisaldavad “nimi&lt;-&gt;IP aadress” tabeleid ja vastavad päringutele “anna selle nime IP aadress”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jutatud andmebaa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DNS servereid on maailmas väga palju. Igaüks saab üles panna oma DNS serveri. DNS serverid süngivad omavahel infot oma tabelit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5276880" y="1066680"/>
            <a:ext cx="3173400" cy="5181840"/>
            <a:chOff x="5276880" y="1066680"/>
            <a:chExt cx="3173400" cy="5181840"/>
          </a:xfrm>
        </p:grpSpPr>
        <p:sp>
          <p:nvSpPr>
            <p:cNvPr id="987" name=""/>
            <p:cNvSpPr/>
            <p:nvPr/>
          </p:nvSpPr>
          <p:spPr>
            <a:xfrm>
              <a:off x="5276880" y="2971800"/>
              <a:ext cx="3173400" cy="3276720"/>
            </a:xfrm>
            <a:custGeom>
              <a:avLst/>
              <a:gdLst/>
              <a:ahLst/>
              <a:rect l="l" t="t" r="r" b="b"/>
              <a:pathLst>
                <a:path w="8813" h="9103">
                  <a:moveTo>
                    <a:pt x="1157" y="0"/>
                  </a:moveTo>
                  <a:lnTo>
                    <a:pt x="0" y="1554"/>
                  </a:lnTo>
                  <a:lnTo>
                    <a:pt x="926" y="3329"/>
                  </a:lnTo>
                  <a:lnTo>
                    <a:pt x="1157" y="5327"/>
                  </a:lnTo>
                  <a:lnTo>
                    <a:pt x="926" y="6437"/>
                  </a:lnTo>
                  <a:lnTo>
                    <a:pt x="463" y="7325"/>
                  </a:lnTo>
                  <a:lnTo>
                    <a:pt x="463" y="8213"/>
                  </a:lnTo>
                  <a:lnTo>
                    <a:pt x="2083" y="9102"/>
                  </a:lnTo>
                  <a:lnTo>
                    <a:pt x="3935" y="8879"/>
                  </a:lnTo>
                  <a:lnTo>
                    <a:pt x="5787" y="7991"/>
                  </a:lnTo>
                  <a:cubicBezTo>
                    <a:pt x="6096" y="7917"/>
                    <a:pt x="6419" y="7885"/>
                    <a:pt x="6713" y="7769"/>
                  </a:cubicBezTo>
                  <a:cubicBezTo>
                    <a:pt x="6762" y="7751"/>
                    <a:pt x="6713" y="7668"/>
                    <a:pt x="6737" y="7626"/>
                  </a:cubicBezTo>
                  <a:cubicBezTo>
                    <a:pt x="6819" y="7487"/>
                    <a:pt x="7022" y="7237"/>
                    <a:pt x="7157" y="7117"/>
                  </a:cubicBezTo>
                  <a:cubicBezTo>
                    <a:pt x="7244" y="6867"/>
                    <a:pt x="7162" y="6932"/>
                    <a:pt x="7311" y="6858"/>
                  </a:cubicBezTo>
                  <a:lnTo>
                    <a:pt x="8334" y="5549"/>
                  </a:lnTo>
                  <a:lnTo>
                    <a:pt x="8797" y="4439"/>
                  </a:lnTo>
                  <a:cubicBezTo>
                    <a:pt x="8768" y="3856"/>
                    <a:pt x="8812" y="3824"/>
                    <a:pt x="8643" y="3426"/>
                  </a:cubicBezTo>
                  <a:cubicBezTo>
                    <a:pt x="8614" y="3357"/>
                    <a:pt x="8599" y="3278"/>
                    <a:pt x="8566" y="3209"/>
                  </a:cubicBezTo>
                  <a:cubicBezTo>
                    <a:pt x="8527" y="3130"/>
                    <a:pt x="8416" y="2991"/>
                    <a:pt x="8416" y="2991"/>
                  </a:cubicBezTo>
                  <a:lnTo>
                    <a:pt x="6250" y="888"/>
                  </a:lnTo>
                  <a:lnTo>
                    <a:pt x="4166" y="444"/>
                  </a:lnTo>
                  <a:lnTo>
                    <a:pt x="3009" y="222"/>
                  </a:lnTo>
                  <a:lnTo>
                    <a:pt x="1620" y="0"/>
                  </a:lnTo>
                  <a:lnTo>
                    <a:pt x="1157" y="0"/>
                  </a:lnTo>
                  <a:lnTo>
                    <a:pt x="1157" y="0"/>
                  </a:lnTo>
                </a:path>
              </a:pathLst>
            </a:custGeom>
            <a:solidFill>
              <a:srgbClr val="00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80600" y="1066680"/>
              <a:ext cx="127872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822720" y="1447920"/>
              <a:ext cx="50004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684840" y="3124080"/>
            <a:ext cx="2214720" cy="1752840"/>
            <a:chOff x="6684840" y="3124080"/>
            <a:chExt cx="2214720" cy="1752840"/>
          </a:xfrm>
        </p:grpSpPr>
        <p:sp>
          <p:nvSpPr>
            <p:cNvPr id="991" name=""/>
            <p:cNvSpPr/>
            <p:nvPr/>
          </p:nvSpPr>
          <p:spPr>
            <a:xfrm>
              <a:off x="6684840" y="3886200"/>
              <a:ext cx="1266840" cy="990720"/>
            </a:xfrm>
            <a:custGeom>
              <a:avLst/>
              <a:gdLst/>
              <a:ahLst/>
              <a:rect l="l" t="t" r="r" b="b"/>
              <a:pathLst>
                <a:path w="3520" h="2753">
                  <a:moveTo>
                    <a:pt x="977" y="211"/>
                  </a:moveTo>
                  <a:lnTo>
                    <a:pt x="0" y="1057"/>
                  </a:lnTo>
                  <a:lnTo>
                    <a:pt x="195" y="1904"/>
                  </a:lnTo>
                  <a:lnTo>
                    <a:pt x="391" y="2116"/>
                  </a:lnTo>
                  <a:lnTo>
                    <a:pt x="586" y="2328"/>
                  </a:lnTo>
                  <a:lnTo>
                    <a:pt x="1563" y="2540"/>
                  </a:lnTo>
                  <a:lnTo>
                    <a:pt x="2150" y="2752"/>
                  </a:lnTo>
                  <a:lnTo>
                    <a:pt x="2737" y="2540"/>
                  </a:lnTo>
                  <a:lnTo>
                    <a:pt x="3127" y="2540"/>
                  </a:lnTo>
                  <a:lnTo>
                    <a:pt x="3323" y="2116"/>
                  </a:lnTo>
                  <a:lnTo>
                    <a:pt x="3519" y="1269"/>
                  </a:lnTo>
                  <a:lnTo>
                    <a:pt x="3127" y="634"/>
                  </a:lnTo>
                  <a:lnTo>
                    <a:pt x="2932" y="211"/>
                  </a:lnTo>
                  <a:lnTo>
                    <a:pt x="2150" y="0"/>
                  </a:lnTo>
                  <a:lnTo>
                    <a:pt x="1563" y="0"/>
                  </a:lnTo>
                  <a:lnTo>
                    <a:pt x="977" y="211"/>
                  </a:lnTo>
                  <a:lnTo>
                    <a:pt x="977" y="211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986600" y="3124080"/>
              <a:ext cx="912960" cy="44928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7596000" y="3581280"/>
              <a:ext cx="70956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 DNS  tr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1951920" y="2590920"/>
            <a:ext cx="1849680" cy="993600"/>
            <a:chOff x="1951920" y="2590920"/>
            <a:chExt cx="1849680" cy="993600"/>
          </a:xfrm>
        </p:grpSpPr>
        <p:sp>
          <p:nvSpPr>
            <p:cNvPr id="996" name=""/>
            <p:cNvSpPr/>
            <p:nvPr/>
          </p:nvSpPr>
          <p:spPr>
            <a:xfrm flipH="1">
              <a:off x="2950920" y="2590920"/>
              <a:ext cx="8506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51920" y="3124080"/>
              <a:ext cx="153792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582720" y="2590920"/>
            <a:ext cx="1216080" cy="1146240"/>
            <a:chOff x="3582720" y="2590920"/>
            <a:chExt cx="1216080" cy="1146240"/>
          </a:xfrm>
        </p:grpSpPr>
        <p:sp>
          <p:nvSpPr>
            <p:cNvPr id="999" name=""/>
            <p:cNvSpPr/>
            <p:nvPr/>
          </p:nvSpPr>
          <p:spPr>
            <a:xfrm>
              <a:off x="3798720" y="2590920"/>
              <a:ext cx="352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82720" y="32767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03480" y="3581280"/>
            <a:ext cx="2373120" cy="841680"/>
            <a:chOff x="303480" y="3581280"/>
            <a:chExt cx="2373120" cy="841680"/>
          </a:xfrm>
        </p:grpSpPr>
        <p:sp>
          <p:nvSpPr>
            <p:cNvPr id="1002" name=""/>
            <p:cNvSpPr/>
            <p:nvPr/>
          </p:nvSpPr>
          <p:spPr>
            <a:xfrm flipH="1">
              <a:off x="1614600" y="3581280"/>
              <a:ext cx="106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3480" y="3962520"/>
              <a:ext cx="2156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 flipH="1">
            <a:off x="700200" y="4495680"/>
            <a:ext cx="4284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195560" y="4419720"/>
            <a:ext cx="3497760" cy="1527120"/>
            <a:chOff x="1195560" y="4419720"/>
            <a:chExt cx="3497760" cy="1527120"/>
          </a:xfrm>
        </p:grpSpPr>
        <p:sp>
          <p:nvSpPr>
            <p:cNvPr id="1006" name=""/>
            <p:cNvSpPr/>
            <p:nvPr/>
          </p:nvSpPr>
          <p:spPr>
            <a:xfrm>
              <a:off x="1611720" y="5486400"/>
              <a:ext cx="3081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ke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95560" y="4419720"/>
              <a:ext cx="56340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266840" y="4419720"/>
            <a:ext cx="3726720" cy="993600"/>
            <a:chOff x="1266840" y="4419720"/>
            <a:chExt cx="3726720" cy="993600"/>
          </a:xfrm>
        </p:grpSpPr>
        <p:sp>
          <p:nvSpPr>
            <p:cNvPr id="1009" name=""/>
            <p:cNvSpPr/>
            <p:nvPr/>
          </p:nvSpPr>
          <p:spPr>
            <a:xfrm>
              <a:off x="1962360" y="4952880"/>
              <a:ext cx="3031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lbert.corp.money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66840" y="44197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036520" y="5943600"/>
            <a:ext cx="214560" cy="304920"/>
            <a:chOff x="2036520" y="5943600"/>
            <a:chExt cx="214560" cy="304920"/>
          </a:xfrm>
        </p:grpSpPr>
        <p:sp>
          <p:nvSpPr>
            <p:cNvPr id="1012" name=""/>
            <p:cNvSpPr/>
            <p:nvPr/>
          </p:nvSpPr>
          <p:spPr>
            <a:xfrm flipH="1">
              <a:off x="2036520" y="5943600"/>
              <a:ext cx="759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09960" y="5943600"/>
              <a:ext cx="141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837040" y="3581280"/>
            <a:ext cx="1521000" cy="1603440"/>
            <a:chOff x="5837040" y="3581280"/>
            <a:chExt cx="1521000" cy="1603440"/>
          </a:xfrm>
        </p:grpSpPr>
        <p:sp>
          <p:nvSpPr>
            <p:cNvPr id="1015" name=""/>
            <p:cNvSpPr/>
            <p:nvPr/>
          </p:nvSpPr>
          <p:spPr>
            <a:xfrm>
              <a:off x="5981760" y="3581280"/>
              <a:ext cx="3524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7040" y="4724280"/>
              <a:ext cx="15210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x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557680" y="3505320"/>
            <a:ext cx="1758960" cy="2064600"/>
            <a:chOff x="5557680" y="3505320"/>
            <a:chExt cx="1758960" cy="2064600"/>
          </a:xfrm>
        </p:grpSpPr>
        <p:sp>
          <p:nvSpPr>
            <p:cNvPr id="1018" name=""/>
            <p:cNvSpPr/>
            <p:nvPr/>
          </p:nvSpPr>
          <p:spPr>
            <a:xfrm flipH="1">
              <a:off x="5835600" y="3505320"/>
              <a:ext cx="7632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57680" y="5110200"/>
              <a:ext cx="17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c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6051600" y="3505320"/>
            <a:ext cx="1859040" cy="1146240"/>
            <a:chOff x="6051600" y="3505320"/>
            <a:chExt cx="1859040" cy="1146240"/>
          </a:xfrm>
        </p:grpSpPr>
        <p:sp>
          <p:nvSpPr>
            <p:cNvPr id="1021" name=""/>
            <p:cNvSpPr/>
            <p:nvPr/>
          </p:nvSpPr>
          <p:spPr>
            <a:xfrm>
              <a:off x="6694560" y="4191120"/>
              <a:ext cx="1216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t.os.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51600" y="3505320"/>
              <a:ext cx="1195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798720" y="2590920"/>
            <a:ext cx="2672280" cy="917640"/>
            <a:chOff x="3798720" y="2590920"/>
            <a:chExt cx="2672280" cy="917640"/>
          </a:xfrm>
        </p:grpSpPr>
        <p:sp>
          <p:nvSpPr>
            <p:cNvPr id="1024" name=""/>
            <p:cNvSpPr/>
            <p:nvPr/>
          </p:nvSpPr>
          <p:spPr>
            <a:xfrm>
              <a:off x="3798720" y="2590920"/>
              <a:ext cx="2041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92520" y="3048120"/>
              <a:ext cx="9784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563280" y="1523880"/>
            <a:ext cx="1013040" cy="1070280"/>
            <a:chOff x="3563280" y="1523880"/>
            <a:chExt cx="1013040" cy="1070280"/>
          </a:xfrm>
        </p:grpSpPr>
        <p:sp>
          <p:nvSpPr>
            <p:cNvPr id="1027" name=""/>
            <p:cNvSpPr/>
            <p:nvPr/>
          </p:nvSpPr>
          <p:spPr>
            <a:xfrm>
              <a:off x="3563280" y="2133720"/>
              <a:ext cx="63108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3936600" y="1523880"/>
              <a:ext cx="6397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4573440" y="1523880"/>
            <a:ext cx="1668240" cy="1070280"/>
            <a:chOff x="4573440" y="1523880"/>
            <a:chExt cx="1668240" cy="1070280"/>
          </a:xfrm>
        </p:grpSpPr>
        <p:sp>
          <p:nvSpPr>
            <p:cNvPr id="1030" name=""/>
            <p:cNvSpPr/>
            <p:nvPr/>
          </p:nvSpPr>
          <p:spPr>
            <a:xfrm>
              <a:off x="5458320" y="2133720"/>
              <a:ext cx="7833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73440" y="1523880"/>
              <a:ext cx="1266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91280" y="2362320"/>
            <a:ext cx="1407960" cy="533160"/>
            <a:chOff x="6191280" y="2362320"/>
            <a:chExt cx="1407960" cy="533160"/>
          </a:xfrm>
        </p:grpSpPr>
        <p:sp>
          <p:nvSpPr>
            <p:cNvPr id="1033" name=""/>
            <p:cNvSpPr/>
            <p:nvPr/>
          </p:nvSpPr>
          <p:spPr>
            <a:xfrm>
              <a:off x="6191280" y="2362320"/>
              <a:ext cx="1407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91280" y="2438280"/>
              <a:ext cx="126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3429000" y="3733920"/>
            <a:ext cx="2293560" cy="1222200"/>
            <a:chOff x="3429000" y="3733920"/>
            <a:chExt cx="2293560" cy="1222200"/>
          </a:xfrm>
        </p:grpSpPr>
        <p:sp>
          <p:nvSpPr>
            <p:cNvPr id="1036" name=""/>
            <p:cNvSpPr/>
            <p:nvPr/>
          </p:nvSpPr>
          <p:spPr>
            <a:xfrm>
              <a:off x="3429000" y="4495680"/>
              <a:ext cx="229356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arnick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81320" y="3733920"/>
              <a:ext cx="49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658960" y="3733920"/>
            <a:ext cx="1749600" cy="841320"/>
            <a:chOff x="2658960" y="3733920"/>
            <a:chExt cx="1749600" cy="841320"/>
          </a:xfrm>
        </p:grpSpPr>
        <p:sp>
          <p:nvSpPr>
            <p:cNvPr id="1039" name=""/>
            <p:cNvSpPr/>
            <p:nvPr/>
          </p:nvSpPr>
          <p:spPr>
            <a:xfrm>
              <a:off x="2658960" y="4114800"/>
              <a:ext cx="17496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op.kids.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3656160" y="3733920"/>
              <a:ext cx="428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4424040" y="1066680"/>
            <a:ext cx="257760" cy="460440"/>
          </a:xfrm>
          <a:custGeom>
            <a:avLst/>
            <a:gdLst>
              <a:gd name="textAreaLeft" fmla="*/ 360 w 257760"/>
              <a:gd name="textAreaRight" fmla="*/ 257400 w 2577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38561">
                <a:moveTo>
                  <a:pt x="142" y="0"/>
                </a:moveTo>
                <a:arcTo wR="142" hR="142" stAng="16200000" swAng="-5400000"/>
                <a:lnTo>
                  <a:pt x="0" y="38419"/>
                </a:lnTo>
                <a:arcTo wR="142" hR="142" stAng="10800000" swAng="-5400000"/>
                <a:lnTo>
                  <a:pt x="21458" y="38561"/>
                </a:lnTo>
                <a:arcTo wR="142" hR="142" stAng="5400000" swAng="-5400000"/>
                <a:lnTo>
                  <a:pt x="21600" y="142"/>
                </a:lnTo>
                <a:arcTo wR="142" hR="14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 fill="hold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 fill="hold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NS: Process examp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56920" y="1541160"/>
            <a:ext cx="3848040" cy="49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Host xyz.iitb.ernet.in wants IP address of www.ibm.com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Contacts its local DNS server, dns.i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.iitb.ernet.in contacts root name server, if necessary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oot name server sends the the authoritative name server address to local name server if necessary 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asks the authoritative name server dns.ibm.com for the IP address of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ibm.com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gets it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-378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Bitstream Vera Sans"/>
              <a:buAutoNum type="arabicPeriod"/>
              <a:tabLst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ocal name server sends the IP address to the host xyz.itb.ernet.in</a:t>
            </a: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78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92120"/>
                <a:tab algn="l" pos="949320"/>
                <a:tab algn="l" pos="1406520"/>
                <a:tab algn="l" pos="1863720"/>
                <a:tab algn="l" pos="2320920"/>
                <a:tab algn="l" pos="2778120"/>
                <a:tab algn="l" pos="3235320"/>
                <a:tab algn="l" pos="3692520"/>
                <a:tab algn="l" pos="4149720"/>
                <a:tab algn="l" pos="4606920"/>
                <a:tab algn="l" pos="5064120"/>
                <a:tab algn="l" pos="5521320"/>
                <a:tab algn="l" pos="5978520"/>
                <a:tab algn="l" pos="6435720"/>
                <a:tab algn="l" pos="6892920"/>
                <a:tab algn="l" pos="7350120"/>
                <a:tab algn="l" pos="7807320"/>
                <a:tab algn="l" pos="8264520"/>
                <a:tab algn="l" pos="8721720"/>
                <a:tab algn="l" pos="917892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4" name=""/>
          <p:cNvSpPr/>
          <p:nvPr/>
        </p:nvSpPr>
        <p:spPr>
          <a:xfrm>
            <a:off x="4195800" y="4648320"/>
            <a:ext cx="225396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z.iitb.ernet.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708600" y="4844880"/>
            <a:ext cx="1522440" cy="33048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ww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5265720" y="2570040"/>
            <a:ext cx="372960" cy="657360"/>
            <a:chOff x="5265720" y="2570040"/>
            <a:chExt cx="372960" cy="657360"/>
          </a:xfrm>
        </p:grpSpPr>
        <p:sp>
          <p:nvSpPr>
            <p:cNvPr id="1047" name=""/>
            <p:cNvSpPr/>
            <p:nvPr/>
          </p:nvSpPr>
          <p:spPr>
            <a:xfrm>
              <a:off x="5265720" y="3075120"/>
              <a:ext cx="370080" cy="15228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452920" y="257508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67160" y="2717640"/>
              <a:ext cx="235080" cy="50508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46371">
                  <a:moveTo>
                    <a:pt x="145" y="0"/>
                  </a:moveTo>
                  <a:arcTo wR="145" hR="145" stAng="16200000" swAng="-5400000"/>
                  <a:lnTo>
                    <a:pt x="0" y="46226"/>
                  </a:lnTo>
                  <a:arcTo wR="145" hR="145" stAng="10800000" swAng="-5400000"/>
                  <a:lnTo>
                    <a:pt x="21455" y="463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65720" y="2570040"/>
              <a:ext cx="370080" cy="152640"/>
            </a:xfrm>
            <a:custGeom>
              <a:avLst/>
              <a:gdLst/>
              <a:ahLst/>
              <a:rect l="l" t="t" r="r" b="b"/>
              <a:pathLst>
                <a:path w="1029" h="424">
                  <a:moveTo>
                    <a:pt x="397" y="0"/>
                  </a:moveTo>
                  <a:lnTo>
                    <a:pt x="1028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7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5800" y="2581200"/>
              <a:ext cx="144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499000" y="3075120"/>
              <a:ext cx="139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97400" y="2784600"/>
              <a:ext cx="155520" cy="29196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1960"/>
                <a:gd name="textAreaBottom" fmla="*/ 291600 h 291960"/>
              </a:gdLst>
              <a:ahLst/>
              <a:rect l="textAreaLeft" t="textAreaTop" r="textAreaRight" b="textAreaBottom"/>
              <a:pathLst>
                <a:path w="21600" h="40506">
                  <a:moveTo>
                    <a:pt x="220" y="0"/>
                  </a:moveTo>
                  <a:arcTo wR="220" hR="220" stAng="16200000" swAng="-5400000"/>
                  <a:lnTo>
                    <a:pt x="0" y="40286"/>
                  </a:lnTo>
                  <a:arcTo wR="220" hR="220" stAng="10800000" swAng="-5400000"/>
                  <a:lnTo>
                    <a:pt x="21380" y="4050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19720" y="2871720"/>
              <a:ext cx="11916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791320" y="736560"/>
            <a:ext cx="20113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17080" y="3408480"/>
            <a:ext cx="2653200" cy="57384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ns.ib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315040" y="3254040"/>
            <a:ext cx="1440" cy="1320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29160" y="1558440"/>
            <a:ext cx="914400" cy="97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6816240" y="1568520"/>
            <a:ext cx="654120" cy="939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5616360" y="1771560"/>
            <a:ext cx="7398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4316400" y="3384720"/>
            <a:ext cx="2253960" cy="604080"/>
            <a:chOff x="4316400" y="3384720"/>
            <a:chExt cx="2253960" cy="604080"/>
          </a:xfrm>
        </p:grpSpPr>
        <p:sp>
          <p:nvSpPr>
            <p:cNvPr id="1064" name=""/>
            <p:cNvSpPr/>
            <p:nvPr/>
          </p:nvSpPr>
          <p:spPr>
            <a:xfrm>
              <a:off x="4505400" y="3457440"/>
              <a:ext cx="1876320" cy="476280"/>
            </a:xfrm>
            <a:prstGeom prst="roundRect">
              <a:avLst>
                <a:gd name="adj" fmla="val 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16400" y="3384720"/>
              <a:ext cx="2253960" cy="60408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ns.iitb.ernet.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5027760" y="41133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57064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13640" y="2027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094520" y="1779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42160" y="210348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60920" y="4151160"/>
            <a:ext cx="307800" cy="36900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5890">
                <a:moveTo>
                  <a:pt x="110" y="0"/>
                </a:moveTo>
                <a:arcTo wR="110" hR="110" stAng="16200000" swAng="-5400000"/>
                <a:lnTo>
                  <a:pt x="0" y="25780"/>
                </a:lnTo>
                <a:arcTo wR="110" hR="110" stAng="10800000" swAng="-5400000"/>
                <a:lnTo>
                  <a:pt x="21490" y="25890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380280" y="1150920"/>
            <a:ext cx="372960" cy="657360"/>
            <a:chOff x="6380280" y="1150920"/>
            <a:chExt cx="372960" cy="657360"/>
          </a:xfrm>
        </p:grpSpPr>
        <p:sp>
          <p:nvSpPr>
            <p:cNvPr id="1073" name=""/>
            <p:cNvSpPr/>
            <p:nvPr/>
          </p:nvSpPr>
          <p:spPr>
            <a:xfrm>
              <a:off x="6380280" y="1655640"/>
              <a:ext cx="369720" cy="15264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67480" y="1155600"/>
              <a:ext cx="169920" cy="50508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5080"/>
                <a:gd name="textAreaBottom" fmla="*/ 504720 h 505080"/>
              </a:gdLst>
              <a:ahLst/>
              <a:rect l="textAreaLeft" t="textAreaTop" r="textAreaRight" b="textAreaBottom"/>
              <a:pathLst>
                <a:path w="21600" h="64115">
                  <a:moveTo>
                    <a:pt x="203" y="0"/>
                  </a:moveTo>
                  <a:arcTo wR="203" hR="203" stAng="16200000" swAng="-5400000"/>
                  <a:lnTo>
                    <a:pt x="0" y="63912"/>
                  </a:lnTo>
                  <a:arcTo wR="203" hR="203" stAng="10800000" swAng="-5400000"/>
                  <a:lnTo>
                    <a:pt x="21397" y="64115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81720" y="129852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80280" y="115092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50000" y="1162080"/>
              <a:ext cx="18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613560" y="1655640"/>
              <a:ext cx="139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11960" y="1365120"/>
              <a:ext cx="155520" cy="2923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2320"/>
                <a:gd name="textAreaBottom" fmla="*/ 291960 h 292320"/>
              </a:gdLst>
              <a:ahLst/>
              <a:rect l="textAreaLeft" t="textAreaTop" r="textAreaRight" b="textAreaBottom"/>
              <a:pathLst>
                <a:path w="21600" h="40556">
                  <a:moveTo>
                    <a:pt x="220" y="0"/>
                  </a:moveTo>
                  <a:arcTo wR="220" hR="220" stAng="16200000" swAng="-5400000"/>
                  <a:lnTo>
                    <a:pt x="0" y="40336"/>
                  </a:lnTo>
                  <a:arcTo wR="220" hR="220" stAng="10800000" swAng="-5400000"/>
                  <a:lnTo>
                    <a:pt x="21380" y="40556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34280" y="1452600"/>
              <a:ext cx="118800" cy="10332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209000" y="2579760"/>
            <a:ext cx="372960" cy="657000"/>
            <a:chOff x="7209000" y="2579760"/>
            <a:chExt cx="372960" cy="657000"/>
          </a:xfrm>
        </p:grpSpPr>
        <p:sp>
          <p:nvSpPr>
            <p:cNvPr id="1082" name=""/>
            <p:cNvSpPr/>
            <p:nvPr/>
          </p:nvSpPr>
          <p:spPr>
            <a:xfrm>
              <a:off x="7209000" y="308448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96200" y="2584440"/>
              <a:ext cx="169920" cy="504720"/>
            </a:xfrm>
            <a:custGeom>
              <a:avLst/>
              <a:gdLst>
                <a:gd name="textAreaLeft" fmla="*/ 360 w 169920"/>
                <a:gd name="textAreaRight" fmla="*/ 169560 w 169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64069">
                  <a:moveTo>
                    <a:pt x="203" y="0"/>
                  </a:moveTo>
                  <a:arcTo wR="203" hR="203" stAng="16200000" swAng="-5400000"/>
                  <a:lnTo>
                    <a:pt x="0" y="63866"/>
                  </a:lnTo>
                  <a:arcTo wR="203" hR="203" stAng="10800000" swAng="-5400000"/>
                  <a:lnTo>
                    <a:pt x="21397" y="64069"/>
                  </a:lnTo>
                  <a:arcTo wR="203" hR="203" stAng="5400000" swAng="-5400000"/>
                  <a:lnTo>
                    <a:pt x="21600" y="203"/>
                  </a:lnTo>
                  <a:arcTo wR="203" hR="203" stAng="0" swAng="-5400000"/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10440" y="2727360"/>
              <a:ext cx="235080" cy="504720"/>
            </a:xfrm>
            <a:custGeom>
              <a:avLst/>
              <a:gdLst>
                <a:gd name="textAreaLeft" fmla="*/ 360 w 235080"/>
                <a:gd name="textAreaRight" fmla="*/ 234720 w 23508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6338">
                  <a:moveTo>
                    <a:pt x="145" y="0"/>
                  </a:moveTo>
                  <a:arcTo wR="145" hR="145" stAng="16200000" swAng="-5400000"/>
                  <a:lnTo>
                    <a:pt x="0" y="46193"/>
                  </a:lnTo>
                  <a:arcTo wR="145" hR="145" stAng="10800000" swAng="-5400000"/>
                  <a:lnTo>
                    <a:pt x="21455" y="46338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09000" y="2579760"/>
              <a:ext cx="369720" cy="152280"/>
            </a:xfrm>
            <a:custGeom>
              <a:avLst/>
              <a:gdLst/>
              <a:ahLst/>
              <a:rect l="l" t="t" r="r" b="b"/>
              <a:pathLst>
                <a:path w="1028" h="424">
                  <a:moveTo>
                    <a:pt x="396" y="0"/>
                  </a:moveTo>
                  <a:lnTo>
                    <a:pt x="1027" y="0"/>
                  </a:lnTo>
                  <a:lnTo>
                    <a:pt x="631" y="423"/>
                  </a:lnTo>
                  <a:lnTo>
                    <a:pt x="0" y="423"/>
                  </a:lnTo>
                  <a:lnTo>
                    <a:pt x="396" y="0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578720" y="2590920"/>
              <a:ext cx="144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7442280" y="3084480"/>
              <a:ext cx="13968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40680" y="2793960"/>
              <a:ext cx="155520" cy="29052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290520"/>
                <a:gd name="textAreaBottom" fmla="*/ 290160 h 290520"/>
              </a:gdLst>
              <a:ahLst/>
              <a:rect l="textAreaLeft" t="textAreaTop" r="textAreaRight" b="textAreaBottom"/>
              <a:pathLst>
                <a:path w="21600" h="40307">
                  <a:moveTo>
                    <a:pt x="220" y="0"/>
                  </a:moveTo>
                  <a:arcTo wR="220" hR="220" stAng="16200000" swAng="-5400000"/>
                  <a:lnTo>
                    <a:pt x="0" y="40087"/>
                  </a:lnTo>
                  <a:arcTo wR="220" hR="220" stAng="10800000" swAng="-5400000"/>
                  <a:lnTo>
                    <a:pt x="21380" y="40307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62640" y="2881440"/>
              <a:ext cx="119160" cy="102960"/>
            </a:xfrm>
            <a:prstGeom prst="roundRect">
              <a:avLst>
                <a:gd name="adj" fmla="val 1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7391520" y="4038480"/>
            <a:ext cx="936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 näitel (klient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välja faile serverarvutist ja veidi lisainfi (HTTP päi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 asub TCP pordil 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% telnet deepthought.ttu.ee 80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takse nimeserverilt “deepthought.ttu.ee” IP aadre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server teeb DNS protokolliga rekursiivse otsingu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nab tulemuse 193.40.254.17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loob TCP ühendu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erveeritakse kohalik TCP po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detakse serverile TCP ühenduse avamise kuts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võrk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telnet saadab päringu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TCP paketti sisaldav IP datagramm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 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rsruutimistabelist selgub, et tuleb kasutada vaikimisi marsruutimisreeglit (Näiteks: 192.168.0.1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RP abil tehakse kindlaks selle Etherneti aadres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üldlevi aadressil küsimus 192.168.0.1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akse vastus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Etherneti kaader aadressil 00:E0:1E:67:F4:3F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odatakse kuni Etherneti võrk on vab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adetakse kaader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192.168.0.1-s ja teistes marsruuterites korratakse marsruutimisprotseduur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gu protsess Http näitel (server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IP kiht annab datagrammi andmeosa edasi TCP kih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eepthoughti TCP kiht annab pordi numbri järgi andmeosa edasi http serveri-programm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 töötleb päringu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ttp server-programm saadab vastuse ja lõpetab TCP ühendus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ordub protseduur läbi TCP, IP ja Etherneti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 pere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2590920" y="1447920"/>
          <a:ext cx="39700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39700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funktsioneerimine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pilt sama, mis eelmisel slaidi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üsimused, mis tahavad vastu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on traadiga ühenduses mitme eri arvutiga (X, Z, U, ...) siis kuidas saata nimelt soovitud arvutisse (meie näites X) oma info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info hulk on väga suur (näiteks 700 MB), kas saaks seda üksikute väiksemate tükkidena sa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kontrollida, kas tükid jõudsid päral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teha, kui mõni tükk kaduma läheb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arvuti X tükid õieti kokku oskab pann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117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EU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Extended User Interfac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ab kohtvõrgu liikluses TCP+IP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Optimiseeritud väikeste kohtvõrkude jaok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Kiir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+ Hea veakindl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ole marsruuditav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- Palju liiklust üldaadressil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37908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etBIO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etBIOS (Network Basic Input/Output System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maldab seansi ja datagrammi tüüpi ühend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ub nimeteenu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asina nimi kuni 15 tähte, hierarhiat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Meetodid nime teisendamiseks IP aadressik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b WINS serverilt (nimede ja IP aadrsside andmebaas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Küsimine üldlevi aadress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MHOSTS ja HOSTS fai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DNS päring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eth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12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38280" y="2971800"/>
            <a:ext cx="300240" cy="304920"/>
            <a:chOff x="2438280" y="2971800"/>
            <a:chExt cx="300240" cy="304920"/>
          </a:xfrm>
        </p:grpSpPr>
        <p:sp>
          <p:nvSpPr>
            <p:cNvPr id="125" name=""/>
            <p:cNvSpPr/>
            <p:nvPr/>
          </p:nvSpPr>
          <p:spPr>
            <a:xfrm>
              <a:off x="2438280" y="29718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29718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4000" y="29718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38280" y="1905120"/>
            <a:ext cx="300240" cy="304560"/>
            <a:chOff x="2438280" y="1905120"/>
            <a:chExt cx="300240" cy="304560"/>
          </a:xfrm>
        </p:grpSpPr>
        <p:sp>
          <p:nvSpPr>
            <p:cNvPr id="129" name=""/>
            <p:cNvSpPr/>
            <p:nvPr/>
          </p:nvSpPr>
          <p:spPr>
            <a:xfrm>
              <a:off x="2438280" y="19051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8280" y="19051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4000" y="19051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038480" y="2362320"/>
            <a:ext cx="300240" cy="304560"/>
            <a:chOff x="4038480" y="2362320"/>
            <a:chExt cx="300240" cy="304560"/>
          </a:xfrm>
        </p:grpSpPr>
        <p:sp>
          <p:nvSpPr>
            <p:cNvPr id="133" name=""/>
            <p:cNvSpPr/>
            <p:nvPr/>
          </p:nvSpPr>
          <p:spPr>
            <a:xfrm>
              <a:off x="4038480" y="2362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2362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4200" y="2362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715000" y="2895480"/>
            <a:ext cx="299880" cy="304920"/>
            <a:chOff x="5715000" y="2895480"/>
            <a:chExt cx="299880" cy="304920"/>
          </a:xfrm>
        </p:grpSpPr>
        <p:sp>
          <p:nvSpPr>
            <p:cNvPr id="137" name=""/>
            <p:cNvSpPr/>
            <p:nvPr/>
          </p:nvSpPr>
          <p:spPr>
            <a:xfrm>
              <a:off x="5715000" y="2895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2895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0360" y="2895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962520" y="1295280"/>
            <a:ext cx="299880" cy="304920"/>
            <a:chOff x="3962520" y="1295280"/>
            <a:chExt cx="299880" cy="304920"/>
          </a:xfrm>
        </p:grpSpPr>
        <p:sp>
          <p:nvSpPr>
            <p:cNvPr id="141" name=""/>
            <p:cNvSpPr/>
            <p:nvPr/>
          </p:nvSpPr>
          <p:spPr>
            <a:xfrm>
              <a:off x="3962520" y="1295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1295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1295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38480" y="3505320"/>
            <a:ext cx="300240" cy="304560"/>
            <a:chOff x="4038480" y="3505320"/>
            <a:chExt cx="300240" cy="304560"/>
          </a:xfrm>
        </p:grpSpPr>
        <p:sp>
          <p:nvSpPr>
            <p:cNvPr id="145" name=""/>
            <p:cNvSpPr/>
            <p:nvPr/>
          </p:nvSpPr>
          <p:spPr>
            <a:xfrm>
              <a:off x="4038480" y="3505320"/>
              <a:ext cx="300240" cy="30456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350532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149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2743200" y="2511000"/>
            <a:ext cx="129528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1523880"/>
            <a:ext cx="18622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th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C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8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43400" y="1901520"/>
            <a:ext cx="1523880" cy="46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191120" y="2663640"/>
            <a:ext cx="1440" cy="84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339800" y="2511000"/>
            <a:ext cx="145404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739960" y="2054160"/>
            <a:ext cx="13017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91120" y="1596960"/>
            <a:ext cx="1440" cy="76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666880"/>
            <a:ext cx="1676520" cy="19051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5720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560" y="25560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51200" y="12952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4960" y="4772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-1317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ulk arvuteid võrgus traatipidi koos: inter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169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172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176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180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184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188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192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196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00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04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523880"/>
            <a:ext cx="205740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32 bitti on 4 baiti. IP aa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irjutatakse enamasti “inimloetavalt” nii (näi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93.40.254.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295280"/>
            <a:ext cx="2209680" cy="67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657600" y="3425400"/>
            <a:ext cx="9144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800600" y="2892240"/>
            <a:ext cx="304920" cy="3870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334120" y="1978200"/>
            <a:ext cx="457200" cy="3110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438280" y="5562720"/>
            <a:ext cx="4648320" cy="679320"/>
            <a:chOff x="2438280" y="5562720"/>
            <a:chExt cx="4648320" cy="679320"/>
          </a:xfrm>
        </p:grpSpPr>
        <p:sp>
          <p:nvSpPr>
            <p:cNvPr id="233" name=""/>
            <p:cNvSpPr/>
            <p:nvPr/>
          </p:nvSpPr>
          <p:spPr>
            <a:xfrm>
              <a:off x="2438280" y="5562720"/>
              <a:ext cx="4648320" cy="67932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38280" y="5562720"/>
              <a:ext cx="4648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i alusprotokolli (IP) kasutamise põhi-id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adres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ga saadetava tekstijupiga pannakse kaasa selle masina aadress, kuhu tekst saata tuleb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on analoogiline hariliku ümbriku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kst on ümbriku see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mbriku peal on saaja aadress (ja tagaküljel ka saatja aadres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4 baiti IP aadressis on nagu aadressi-read: maja, tänav, linn, ri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-arvutid on nagu postkontorid ja sorteerimispunkt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adid on nagu veomasinad, mis posti kontorite vahel veava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ket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harilikku ümbrikku aga ei mahu terve entsoklüpeedia kümme köidet! Mida teha? Paneme eraldi köited eri ümbrikutesse ja saadame kümme ümbrikku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ka internet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ikad tekstid lõhutakse väiksemateks juppideks (nn pakettideks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etid saadetakse eraldi, igalühel aadress pea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itstream Ver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38080" y="377640"/>
            <a:ext cx="7770960" cy="308160"/>
            <a:chOff x="838080" y="377640"/>
            <a:chExt cx="7770960" cy="308160"/>
          </a:xfrm>
        </p:grpSpPr>
        <p:sp>
          <p:nvSpPr>
            <p:cNvPr id="238" name=""/>
            <p:cNvSpPr/>
            <p:nvPr/>
          </p:nvSpPr>
          <p:spPr>
            <a:xfrm>
              <a:off x="838080" y="68436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07600" y="3776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243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246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250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254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258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262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266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270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274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278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219320"/>
            <a:ext cx="220968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 tahab saata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M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657600" y="3425400"/>
            <a:ext cx="914400" cy="82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info siis liigub?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606240"/>
            <a:ext cx="7772400" cy="308160"/>
            <a:chOff x="838080" y="606240"/>
            <a:chExt cx="7772400" cy="308160"/>
          </a:xfrm>
        </p:grpSpPr>
        <p:sp>
          <p:nvSpPr>
            <p:cNvPr id="312" name=""/>
            <p:cNvSpPr/>
            <p:nvPr/>
          </p:nvSpPr>
          <p:spPr>
            <a:xfrm>
              <a:off x="838080" y="91296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609040" y="606240"/>
              <a:ext cx="1440" cy="307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181480" y="2514600"/>
            <a:ext cx="300240" cy="304920"/>
            <a:chOff x="5181480" y="2514600"/>
            <a:chExt cx="300240" cy="304920"/>
          </a:xfrm>
        </p:grpSpPr>
        <p:sp>
          <p:nvSpPr>
            <p:cNvPr id="315" name=""/>
            <p:cNvSpPr/>
            <p:nvPr/>
          </p:nvSpPr>
          <p:spPr>
            <a:xfrm>
              <a:off x="5181480" y="25146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25146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07200" y="2514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200400" y="3581280"/>
            <a:ext cx="299880" cy="304920"/>
            <a:chOff x="3200400" y="3581280"/>
            <a:chExt cx="299880" cy="304920"/>
          </a:xfrm>
        </p:grpSpPr>
        <p:sp>
          <p:nvSpPr>
            <p:cNvPr id="319" name=""/>
            <p:cNvSpPr/>
            <p:nvPr/>
          </p:nvSpPr>
          <p:spPr>
            <a:xfrm>
              <a:off x="3200400" y="35812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35812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5760" y="35812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48320" y="3505320"/>
            <a:ext cx="299880" cy="304560"/>
            <a:chOff x="4648320" y="3505320"/>
            <a:chExt cx="299880" cy="304560"/>
          </a:xfrm>
        </p:grpSpPr>
        <p:sp>
          <p:nvSpPr>
            <p:cNvPr id="323" name=""/>
            <p:cNvSpPr/>
            <p:nvPr/>
          </p:nvSpPr>
          <p:spPr>
            <a:xfrm>
              <a:off x="4648320" y="3505320"/>
              <a:ext cx="299880" cy="30456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8320" y="350532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3680" y="3505320"/>
              <a:ext cx="74520" cy="30456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248520" y="3657600"/>
            <a:ext cx="299880" cy="304920"/>
            <a:chOff x="6248520" y="3657600"/>
            <a:chExt cx="299880" cy="304920"/>
          </a:xfrm>
        </p:grpSpPr>
        <p:sp>
          <p:nvSpPr>
            <p:cNvPr id="327" name=""/>
            <p:cNvSpPr/>
            <p:nvPr/>
          </p:nvSpPr>
          <p:spPr>
            <a:xfrm>
              <a:off x="6248520" y="3657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48520" y="3657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3880" y="3657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352680" y="2743200"/>
            <a:ext cx="300240" cy="304920"/>
            <a:chOff x="3352680" y="2743200"/>
            <a:chExt cx="300240" cy="304920"/>
          </a:xfrm>
        </p:grpSpPr>
        <p:sp>
          <p:nvSpPr>
            <p:cNvPr id="331" name=""/>
            <p:cNvSpPr/>
            <p:nvPr/>
          </p:nvSpPr>
          <p:spPr>
            <a:xfrm>
              <a:off x="3352680" y="274320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2743200"/>
              <a:ext cx="300240" cy="7452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8400" y="27432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86200" y="5181480"/>
            <a:ext cx="299880" cy="304920"/>
            <a:chOff x="3886200" y="5181480"/>
            <a:chExt cx="299880" cy="304920"/>
          </a:xfrm>
        </p:grpSpPr>
        <p:sp>
          <p:nvSpPr>
            <p:cNvPr id="335" name=""/>
            <p:cNvSpPr/>
            <p:nvPr/>
          </p:nvSpPr>
          <p:spPr>
            <a:xfrm>
              <a:off x="3886200" y="518148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86200" y="5181480"/>
              <a:ext cx="299880" cy="7488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11560" y="5181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486400" y="4800600"/>
            <a:ext cx="299880" cy="304920"/>
            <a:chOff x="5486400" y="4800600"/>
            <a:chExt cx="299880" cy="304920"/>
          </a:xfrm>
        </p:grpSpPr>
        <p:sp>
          <p:nvSpPr>
            <p:cNvPr id="339" name=""/>
            <p:cNvSpPr/>
            <p:nvPr/>
          </p:nvSpPr>
          <p:spPr>
            <a:xfrm>
              <a:off x="5486400" y="48006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48006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1760" y="48006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048120" y="4572000"/>
            <a:ext cx="299880" cy="304920"/>
            <a:chOff x="3048120" y="4572000"/>
            <a:chExt cx="299880" cy="304920"/>
          </a:xfrm>
        </p:grpSpPr>
        <p:sp>
          <p:nvSpPr>
            <p:cNvPr id="343" name=""/>
            <p:cNvSpPr/>
            <p:nvPr/>
          </p:nvSpPr>
          <p:spPr>
            <a:xfrm>
              <a:off x="3048120" y="4572000"/>
              <a:ext cx="299880" cy="304920"/>
            </a:xfrm>
            <a:custGeom>
              <a:avLst/>
              <a:gdLst/>
              <a:ahLst/>
              <a:rect l="l" t="t" r="r" b="b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8120" y="4572000"/>
              <a:ext cx="299880" cy="74520"/>
            </a:xfrm>
            <a:custGeom>
              <a:avLst/>
              <a:gdLst/>
              <a:ahLst/>
              <a:rect l="l" t="t" r="r" b="b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3480" y="457200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867280" y="1752480"/>
            <a:ext cx="300240" cy="304920"/>
            <a:chOff x="5867280" y="1752480"/>
            <a:chExt cx="300240" cy="304920"/>
          </a:xfrm>
        </p:grpSpPr>
        <p:sp>
          <p:nvSpPr>
            <p:cNvPr id="347" name=""/>
            <p:cNvSpPr/>
            <p:nvPr/>
          </p:nvSpPr>
          <p:spPr>
            <a:xfrm>
              <a:off x="5867280" y="1752480"/>
              <a:ext cx="300240" cy="304920"/>
            </a:xfrm>
            <a:custGeom>
              <a:avLst/>
              <a:gdLst/>
              <a:ahLst/>
              <a:rect l="l" t="t" r="r" b="b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1752480"/>
              <a:ext cx="300240" cy="74880"/>
            </a:xfrm>
            <a:custGeom>
              <a:avLst/>
              <a:gdLst/>
              <a:ahLst/>
              <a:rect l="l" t="t" r="r" b="b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3000" y="1752480"/>
              <a:ext cx="74520" cy="304920"/>
            </a:xfrm>
            <a:custGeom>
              <a:avLst/>
              <a:gdLst/>
              <a:ahLst/>
              <a:rect l="l" t="t" r="r" b="b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87640" y="110808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1240" y="3200400"/>
            <a:ext cx="401040" cy="460440"/>
          </a:xfrm>
          <a:custGeom>
            <a:avLst/>
            <a:gdLst>
              <a:gd name="textAreaLeft" fmla="*/ 360 w 401040"/>
              <a:gd name="textAreaRight" fmla="*/ 400680 w 40104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4796">
                <a:moveTo>
                  <a:pt x="85" y="0"/>
                </a:moveTo>
                <a:arcTo wR="85" hR="85" stAng="16200000" swAng="-5400000"/>
                <a:lnTo>
                  <a:pt x="0" y="24711"/>
                </a:lnTo>
                <a:arcTo wR="85" hR="85" stAng="10800000" swAng="-5400000"/>
                <a:lnTo>
                  <a:pt x="21515" y="2479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1219320"/>
            <a:ext cx="2209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 peab saatma  teksti “Ahoi, ter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dasi masinale IP-aadressiga 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uuterprogramm otsustab, kumbat juhet (tegelikult, vahemasina aadressi) v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tsutagu näiteks masina E kasu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05520" y="3044880"/>
            <a:ext cx="304560" cy="387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 </dc:title>
</cp:coreProperties>
</file>